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270-4940-4281-BC61-FEB7049B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7CF-53EE-4F06-845F-A2AD32A7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28E-4FCC-48DA-8095-7D5ABC13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F42-BF6A-4860-B509-53905996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65A-2AF1-4276-8EE2-7CFE13AE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1AA1-CEB3-4504-AC1B-C6121A06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B56-5E28-40A9-A307-FBC73699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17B8-7497-49FB-A74A-67E0592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2C4-E637-4BC4-A78D-D1B40EAB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71BB-73CF-4199-A9CD-DC7AE615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0C5-3D24-4F47-BD4F-25264D9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935-6EA5-4FD7-B510-E9DC6A8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4052-FCBB-4B18-8B29-400F8F2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2C09-7305-4DA5-881B-23558C8F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704-F693-4338-AEC1-97ADE41A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3C1-D5CC-4937-B028-3D88B2E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8452-364C-40DB-A29F-9E52F022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8BB-8A85-4666-B63D-489A806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B37-5A65-45C6-BDFA-2E81F4C2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75A-F5AD-4C90-B811-2FB0DE38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649-6295-48F8-B125-4280CAC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628-B2B6-4220-AF3C-B593AD2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03D-E8EE-4E52-B608-E44199D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C9F-416A-47E1-83CB-58808F3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DC05-A57A-43BD-A7F3-57479741E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685-87A2-49C0-A5A1-48B52CE41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npQrMqDoqE&amp;feature=related" TargetMode="External"/><Relationship Id="rId3" Type="http://schemas.openxmlformats.org/officeDocument/2006/relationships/hyperlink" Target="http://www.youtube.com/watch?v=hnpQrMqDoqE&amp;feature=related" TargetMode="External"/><Relationship Id="rId4" Type="http://schemas.openxmlformats.org/officeDocument/2006/relationships/hyperlink" Target="http://www.youtube.com/watch?v=hnpQrMqDoqE&amp;feature=related" TargetMode="External"/><Relationship Id="rId5" Type="http://schemas.openxmlformats.org/officeDocument/2006/relationships/hyperlink" Target="http://www.youtube.com/watch?v=hnpQrMqDoqE&amp;feature=related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TSzx_bAKvuM" TargetMode="External"/><Relationship Id="rId3" Type="http://schemas.openxmlformats.org/officeDocument/2006/relationships/hyperlink" Target="http://www.youtube.com/watch?v=TSzx_bAKvuM" TargetMode="External"/><Relationship Id="rId4" Type="http://schemas.openxmlformats.org/officeDocument/2006/relationships/hyperlink" Target="http://www.youtube.com/watch?v=TSzx_bAKvu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Georgia"/>
              </a:rPr>
              <a:t>Stress</a:t>
            </a:r>
            <a:r>
              <a:rPr b="0" lang="en-US" sz="6600" spc="-1" strike="noStrike">
                <a:solidFill>
                  <a:srgbClr val="b7e7ff"/>
                </a:solidFill>
                <a:latin typeface="Georgia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Georgia"/>
              </a:rPr>
              <a:t>Management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Let it Go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get a name tag and marker, then write your name on your name tag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952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5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anaging Stress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Brainsmar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- BBC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leeplessnes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utterflies / Kno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old hands / Dry mouth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hange in Appetit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n’t Concentrat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verwhelme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5522760"/>
            <a:ext cx="82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6781680" y="6216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Funny Clip ~ Stress At office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5:07:46Z</dcterms:created>
  <dc:creator>Chris Liles</dc:creator>
  <dc:description/>
  <dc:language>en-US</dc:language>
  <cp:lastModifiedBy>Chris Liles</cp:lastModifiedBy>
  <dcterms:modified xsi:type="dcterms:W3CDTF">2012-06-13T06:30:22Z</dcterms:modified>
  <cp:revision>2</cp:revision>
  <dc:subject/>
  <dc:title>Stress Management</dc:title>
</cp:coreProperties>
</file>